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907588" cy="6858000"/>
  <p:notesSz cx="10234613" cy="7099300"/>
</p:presentation>
</file>

<file path=ppt/commentAuthors.xml><?xml version="1.0" encoding="utf-8"?>
<p:cmAuthorLst xmlns:p="http://schemas.openxmlformats.org/presentationml/2006/main">
  <p:cmAuthor id="0" name="aleksis ahvensalmi" initials="a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3-04-15T16:05:13.937000000" idx="1">
    <p:pos x="2969" y="1420"/>
    <p:text>Listaus ja termit YSL 4§:n mukainen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4660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6524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2832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4660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6524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274320"/>
            <a:ext cx="769644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4660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6524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2832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4660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6524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75840" y="274320"/>
            <a:ext cx="769644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4660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6524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2832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4660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6524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75840" y="274320"/>
            <a:ext cx="769644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4660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65240" y="181404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2832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4660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465240" y="3718080"/>
            <a:ext cx="2493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75840" y="274320"/>
            <a:ext cx="7696440" cy="41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6600" y="371808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832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6600" y="1814040"/>
            <a:ext cx="37789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28320" y="3718080"/>
            <a:ext cx="77439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6480" y="0"/>
            <a:ext cx="9899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6c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598760" indent="-2271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5960" indent="-227160">
              <a:spcBef>
                <a:spcPts val="64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traight Connector 4"/>
          <p:cNvSpPr/>
          <p:nvPr/>
        </p:nvSpPr>
        <p:spPr>
          <a:xfrm>
            <a:off x="0" y="1890720"/>
            <a:ext cx="6653160" cy="146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6c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598760" indent="-2271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5960" indent="-227160">
              <a:spcBef>
                <a:spcPts val="64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6480" y="0"/>
            <a:ext cx="98996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6c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598760" indent="-2271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5960" indent="-227160">
              <a:spcBef>
                <a:spcPts val="64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6c6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28320" y="1814040"/>
            <a:ext cx="77439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598760" indent="-2271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5960" indent="-227160">
              <a:spcBef>
                <a:spcPts val="64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5960" indent="-2271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uorakulmio 3"/>
          <p:cNvSpPr/>
          <p:nvPr/>
        </p:nvSpPr>
        <p:spPr>
          <a:xfrm>
            <a:off x="2759040" y="2697120"/>
            <a:ext cx="4603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Kaivosten ympäristöriskinarviointi ja lainsäädäntö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orakulmio 5"/>
          <p:cNvSpPr/>
          <p:nvPr/>
        </p:nvSpPr>
        <p:spPr>
          <a:xfrm>
            <a:off x="2595600" y="4402080"/>
            <a:ext cx="476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INERA-hankkeen loppusemina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17.4.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Minera logo plain lapinakyva (ID 3408).png"/>
          <p:cNvPicPr/>
          <p:nvPr/>
        </p:nvPicPr>
        <p:blipFill>
          <a:blip r:embed="rId1"/>
          <a:stretch/>
        </p:blipFill>
        <p:spPr>
          <a:xfrm>
            <a:off x="95400" y="193680"/>
            <a:ext cx="1996920" cy="987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Tekes logo vaaka (ID 3329).jpg"/>
          <p:cNvPicPr/>
          <p:nvPr/>
        </p:nvPicPr>
        <p:blipFill>
          <a:blip r:embed="rId2"/>
          <a:stretch/>
        </p:blipFill>
        <p:spPr>
          <a:xfrm>
            <a:off x="95400" y="1947960"/>
            <a:ext cx="1676160" cy="49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U-lippu EAKR läpinäkyvä.jpg"/>
          <p:cNvPicPr/>
          <p:nvPr/>
        </p:nvPicPr>
        <p:blipFill>
          <a:blip r:embed="rId3"/>
          <a:stretch/>
        </p:blipFill>
        <p:spPr>
          <a:xfrm>
            <a:off x="114480" y="1265400"/>
            <a:ext cx="1176120" cy="572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vipuvoimaaEU_rgb (ID 3317).jpg"/>
          <p:cNvPicPr/>
          <p:nvPr/>
        </p:nvPicPr>
        <p:blipFill>
          <a:blip r:embed="rId4"/>
          <a:stretch/>
        </p:blipFill>
        <p:spPr>
          <a:xfrm>
            <a:off x="114480" y="2521080"/>
            <a:ext cx="2135160" cy="823680"/>
          </a:xfrm>
          <a:prstGeom prst="rect">
            <a:avLst/>
          </a:prstGeom>
          <a:ln w="0">
            <a:noFill/>
          </a:ln>
        </p:spPr>
      </p:pic>
      <p:sp>
        <p:nvSpPr>
          <p:cNvPr id="161" name="Suorakulmio 5"/>
          <p:cNvSpPr/>
          <p:nvPr/>
        </p:nvSpPr>
        <p:spPr>
          <a:xfrm>
            <a:off x="2747880" y="5562720"/>
            <a:ext cx="47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Linnunmaa 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Mari Tarvai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Mitä tutkimme?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27240" y="181404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Georgia"/>
              </a:rPr>
              <a:t>Kuinka ympäristöriskinarviointia käsitellään kaivostoimintaa koskevassa lainsäädännössä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Georgia"/>
              </a:rPr>
              <a:t>Case: Riskinarviointi kaivosten ympäristöluvissa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5840" y="18396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6c6"/>
                </a:solidFill>
                <a:latin typeface="Georgia"/>
              </a:rPr>
              <a:t>Kaivosten ympäristöriskejä koskevaa lainsäädäntöä 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46320" y="1490760"/>
          <a:ext cx="5856120" cy="4973400"/>
        </p:xfrm>
        <a:graphic>
          <a:graphicData uri="http://schemas.openxmlformats.org/drawingml/2006/table">
            <a:tbl>
              <a:tblPr/>
              <a:tblGrid>
                <a:gridCol w="5202360"/>
                <a:gridCol w="653760"/>
              </a:tblGrid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Säädö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Nume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Kaivos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21/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kaivostoiminna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91/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kaivosturvallisuude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571/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Ympäristönsuojelu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6/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Ympäristönsuojeluaset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9/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ki ympäristövaikutusten arvioinn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86/19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setus ympäristövaikutusten arvioinn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13/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uonnonsuojelu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096/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uonnonsuojeluaset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60/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esi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87/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atoturvallisuus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94/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patoturvallisuude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19/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Kemikaali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744/19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Kemikaaliaset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75/1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ki vaarallisten kemikaalien ja räjähteiden käsittelyn turvallisuude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90/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altioneuvoston asetus vaarallisten kemikaalien käsittelyn ja varastoinnin valvonna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55/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altioneuvoston asetus vaarallisten kemikaalien teollisen käsittelyn ja varastoinnin turvallisuusvaatimuks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56/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Jätelak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46/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Jäteaset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390/1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ki eräistä naapuruussuhte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6/19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nestemäisten polttoaineiden jakeluasemien ympäristönsuojeluvaatimuks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44/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polttoaineteholtaan alle 50 megawatin energiantuotantoyksiköiden ympäristönsuojeluvaatimuks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45/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kivenlouhimojen, muun kivenlouhinnan ja kivenmurskaamojen ympäristönsuojelu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800/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ulkona käytettävien laitteiden melupäästöistä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621/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p melutason ohjearvo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93/19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maaperän pilaantuneisuuden ja puhdistustarpeen arvioinn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14/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vesiympäristölle vaarallisista ja haitallisista aineis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022/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VNA kaivannaisjätteistä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79/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EACH-aset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7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EY) N:o 1907/20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Poimintoja: lainsäädäntökatsaus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27240" y="181404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Yleiset ympäristöoikeudelliset periaatteet määrittävät pitkälti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Georgia"/>
              </a:rPr>
              <a:t>Ennaltaehkäisyn ja haittojen minimoinnin periaa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Georgia"/>
              </a:rPr>
              <a:t>Varovaisuus- ja huolellisuusperiaat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Georgia"/>
              </a:rPr>
              <a:t>BAT ja BEP -periaatteet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Georgia"/>
              </a:rPr>
              <a:t>Aiheuttamisperiaate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Riskinarviointivaatimukset eri lainsäädännössä epäyhtenäisiä ja osin päällekkäisi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900" spc="-1" strike="noStrike">
                <a:solidFill>
                  <a:srgbClr val="000000"/>
                </a:solidFill>
                <a:latin typeface="Georgia"/>
              </a:rPr>
              <a:t>Mm. kaivoslaki, kaivannaisjäteasetus, ympäristönsuojelulaki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YVAn merkitys kokoavana lainsäädäntönä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Case: Mitä tutkimme?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27240" y="181404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Georgia"/>
              </a:rPr>
              <a:t>Kaivosten ympäristölupapäätöks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spcBef>
                <a:spcPts val="575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000000"/>
                </a:solidFill>
                <a:latin typeface="Georgia"/>
              </a:rPr>
              <a:t>Lupapäätöksen kertoelmaosa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spcBef>
                <a:spcPts val="499"/>
              </a:spcBef>
              <a:buClr>
                <a:srgbClr val="80808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eorgia"/>
              </a:rPr>
              <a:t>toiminnanharjoittajan selvitys riskin arvioinnis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1560" indent="-227160">
              <a:spcBef>
                <a:spcPts val="499"/>
              </a:spcBef>
              <a:buClr>
                <a:srgbClr val="80808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eorgia"/>
              </a:rPr>
              <a:t>toiminnanharjoittajan selvitys parhaan käyttökelpoisen tekniikan (BAT) ja ympäristön kannalta parhaiden käytäntöjen (BEP) soveltamisesta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1240" indent="-284040">
              <a:spcBef>
                <a:spcPts val="575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000000"/>
                </a:solidFill>
                <a:latin typeface="Georgia"/>
              </a:rPr>
              <a:t>Lisäksi tutkittiin, millaisia riskinarviointia edellyttäviä lupamääräyksiä viranomainen on päätöksessä antanu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575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Case: lupapäätökset 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27240" y="153936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>
              <a:spcBef>
                <a:spcPts val="3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Itä-Suomi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Pampalon kultakaivosta ja rikastamoa koskeva ympäristölupa (päätös nro 23/08/2, Dnro ISY-2004-Y-271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Saarisen apatiittikaivoksen ympäristölupa (Nro 57/2012/1, Dnro ISAVI/92/04.08/2011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Kvartsiitin louhintaa ja jalostusta Kinahmin ja Lasivuoren kaivospiireissä koskeva ympäristölupa (Nro 29/2012/1, Dnro ISAVI/6/04.08/2011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6640" indent="-296640">
              <a:spcBef>
                <a:spcPts val="3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Länsi-Suomi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Paroc Oy Ab:n Sallitun kaivoksen toimintaa koskevan ympäristönsuojelulain mukainen ympäristölupa (Nro 106/2009/2, Dnro LSY-2008-Y-341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96640" indent="-296640">
              <a:spcBef>
                <a:spcPts val="34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Pohjois-Suomi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Talvivaaran kaivoksen ympäristö- ja vesitalouslupa (Nro 33/07/1, Dnro PSY-2006-Y-47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Alasen talkkikaivoksen ja rikastamon ympäristölupa (Nro 69/04/2, Dnro PSY-2001-Y-29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Tyvisuon kaivoksen ympäristö- ja vesitalouslupa (Nro 65/06/2, Dnro PSY-2005-Y-96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Georgia"/>
              </a:rPr>
              <a:t>Hituran kaivoksen ympäristö- ja vesitalouslupa sekä toiminnanaloittamislupa (Nro 66/10/1, Dnro PSAVI/3/04.08/2010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lvl="1" marL="644760" indent="-246960">
              <a:spcBef>
                <a:spcPts val="3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Case: Mitä lainsäädäntö vaatii?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27240" y="181404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Lupahakemuksen tulee lisäksi sisältää, ottaen huomioon toiminnan luonne ja sen vaikutukset, lupaharkinnan kannalta tarpeelliset seikat, kuten </a:t>
            </a:r>
            <a:r>
              <a:rPr b="1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arvio toimintaan liittyvistä ympäristöriskeistä, onnettomuuksien estämiseksi suunnitelluista toimista sekä toimista häiriötilanteiss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(YSA 9.2 §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Case: Mitä lainsäädäntö vaatii?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27240" y="181404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Lupaviranomaiset voivat antaa määräyksiä toimista, joilla ehkäistään, vähennetään tai selvitetään pilaantumista, sen vaaraa tai pilaantumisesta aiheutuvia haittoja. Selvitysmääräys voidaan antaa lisäksi </a:t>
            </a:r>
            <a:r>
              <a:rPr b="1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toimintaan liittyvän riskin selvittämiseksi</a:t>
            </a:r>
            <a:r>
              <a:rPr b="0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YSL 43.1 §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5840" y="274320"/>
            <a:ext cx="769644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86c6"/>
                </a:solidFill>
                <a:latin typeface="Georgia"/>
              </a:rPr>
              <a:t>Case: Keskeisimmät tulokset </a:t>
            </a:r>
            <a:endParaRPr b="0" lang="en-US" sz="3600" spc="-1" strike="noStrike">
              <a:solidFill>
                <a:srgbClr val="0086c6"/>
              </a:solidFill>
              <a:latin typeface="Georg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27240" y="1814040"/>
            <a:ext cx="77104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Kaivosten ympäristölupapäätöksissä ei kattavasti kuvata tai välttämättä edes edellytetä riskinarvioint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81840" indent="-261000">
              <a:spcBef>
                <a:spcPts val="524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100" spc="-1" strike="noStrike">
                <a:solidFill>
                  <a:srgbClr val="000000"/>
                </a:solidFill>
                <a:latin typeface="Georgia"/>
              </a:rPr>
              <a:t>2/8 päätöksessä riskinarviointi mainitaa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3920" indent="-313920">
              <a:spcBef>
                <a:spcPts val="601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Päätöksissä käsitellään riskin</a:t>
            </a:r>
            <a:r>
              <a:rPr b="0" i="1" lang="fi-FI" sz="2400" spc="-1" strike="noStrike">
                <a:solidFill>
                  <a:srgbClr val="000000"/>
                </a:solidFill>
                <a:latin typeface="Georgia"/>
              </a:rPr>
              <a:t>hallintaa</a:t>
            </a: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, mutta ei riskin</a:t>
            </a:r>
            <a:r>
              <a:rPr b="0" i="1" lang="fi-FI" sz="2400" spc="-1" strike="noStrike">
                <a:solidFill>
                  <a:srgbClr val="000000"/>
                </a:solidFill>
                <a:latin typeface="Georgia"/>
              </a:rPr>
              <a:t>arvioint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3920" indent="-313920">
              <a:spcBef>
                <a:spcPts val="601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3920" indent="-313920">
              <a:spcBef>
                <a:spcPts val="601"/>
              </a:spcBef>
              <a:buClr>
                <a:srgbClr val="80808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Ympäristöoikeuden joustavat normit, jolloin lupaharkinta väljää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3920" indent="-313920">
              <a:spcBef>
                <a:spcPts val="601"/>
              </a:spcBef>
              <a:buClr>
                <a:srgbClr val="80808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Georgia"/>
              </a:rPr>
              <a:t>Epäyhtenäinen sääntely, perustuu useisiin lakeih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9:53:43Z</dcterms:created>
  <dc:creator>Päivi Kaasinen</dc:creator>
  <dc:description/>
  <dc:language>en-US</dc:language>
  <cp:lastModifiedBy>Hiltunen Laura</cp:lastModifiedBy>
  <cp:lastPrinted>2001-09-21T11:51:20Z</cp:lastPrinted>
  <dcterms:modified xsi:type="dcterms:W3CDTF">2014-02-27T10:53:52Z</dcterms:modified>
  <cp:revision>131</cp:revision>
  <dc:subject/>
  <dc:title>Dia 1</dc:title>
</cp:coreProperties>
</file>